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950001"/>
        <c:axId val="81501194"/>
      </c:barChart>
      <c:catAx>
        <c:axId val="159500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501194"/>
        <c:crosses val="autoZero"/>
        <c:auto val="1"/>
        <c:lblAlgn val="ctr"/>
        <c:lblOffset val="100"/>
        <c:noMultiLvlLbl val="0"/>
      </c:catAx>
      <c:valAx>
        <c:axId val="815011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9500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38A8-6761-40D4-B747-86D82832C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F159-A3B5-4BCD-A530-7D8C2817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A950-CE4A-4202-A418-67089E8B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868F-A18D-464D-B10B-8CB714CCE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A941-3DF9-4153-9F28-82926A28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6AAC-180E-497F-BDC0-29350814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E20C-8710-41E8-A401-B0BA5A68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B14F-9F89-43D0-B13C-9215BEC7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B6E4-8B6C-4D0D-BBEA-33DB6F35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06F9-C2D1-46FB-84A4-CA65D5B2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F8A5-540C-4390-999E-B5D09D00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B533-2E5B-48BD-B656-98EE6F0C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FAF3A-DC03-4C26-A1CA-04F020901F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